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073-DF5F-4B5B-A106-08970C69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AFC-DE89-41F1-B8DE-E8C2142C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BE3-9EF7-44F2-9474-E0D6E70B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755-B522-429D-9F32-7E2A68F7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80C-3138-4720-8674-15E891C6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83B-03DB-406E-80E8-A84E50EF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E3D-D570-473C-BF7E-EA431A5F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08A-2A7C-4C9E-A26E-6F4154CD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631-A752-4FB6-8112-CCF6DCDB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3F3-8448-4215-95E9-D4A8EEA3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A92-91E7-4FD0-BB2B-C2F282AB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DF3-F86F-4FD8-A200-48CC8302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AA48-4F1F-4B8C-B128-1996C646C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, Check, Rev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181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8915400" cy="142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09680" y="4572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opc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572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4572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952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opc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4952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$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45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2666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est your conjecture by calculating the total pr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3876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ultiply the selling price of popcorn by 79 and the selling price of soda by 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402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743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5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5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268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1460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$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24000" y="647640"/>
            <a:ext cx="6694560" cy="556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24280" y="5410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$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67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4724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1:19:22Z</dcterms:created>
  <dc:creator>Susannah Graham</dc:creator>
  <dc:description/>
  <dc:language>en-US</dc:language>
  <cp:lastModifiedBy>grahams</cp:lastModifiedBy>
  <dcterms:modified xsi:type="dcterms:W3CDTF">2011-10-21T12:57:35Z</dcterms:modified>
  <cp:revision>10</cp:revision>
  <dc:subject/>
  <dc:title>Problem of the Day!!! </dc:title>
</cp:coreProperties>
</file>